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0F21-EAA7-407C-B7B7-F7775073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B133-942B-49DA-BB58-47EA1044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AC5E-6BBD-4A6C-A277-5AEDA593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0C44-C28E-4BA8-9B9F-2F916A81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7E52-08E3-4A3C-93F7-5B21F1D9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FF32-5537-4160-8057-692ED25B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BBD4-FFB0-4B85-8B2A-67EDA2FA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3B0D-6E96-45C5-8A55-1470D258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367-B269-49DC-B1B7-E2518DC4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D24C-952F-4A11-81E1-225A51DD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8D37-B3EA-4833-8968-EB801AF5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55AC-1FF2-49F5-8382-3B83C2C1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EC10-AA2A-4516-8B5D-99DA0B1F85D0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25 Kto sa ti, Kriste, vyrovná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sa ti, Kriste, vyrovná?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múdrosť tvojej podobná?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slovom, skutkom učíš ná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hriešnych voláš zas a z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k spáse treba poznať n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 všetko ty si zjavil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slávy neba si sa vzda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re nás človekom sa st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nás si život položi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k spásu nám si vydoby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š moc nás láskou obnovi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riviesť domov k Otcov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o všetkom nám si príklad d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i v službe iným verne stál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tebou mnohý svedok šie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z lásky tebe slúžiť chc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znášal utrpenie bô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kríž si niesť mu pomoh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ja chcem tebou dať sa vies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menu tvojmu vzdávať če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ňa očisť, prosím, pýchy zbav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 mojom srdci chrám si sprav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z milosti raz uzrieť smie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n slávny domov, krásnu ze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1:11:10Z</dcterms:modified>
  <cp:revision>28</cp:revision>
  <dc:subject/>
  <dc:title>Je veľký náš Pán, on slávy je Kráľ Nech do všetkých strán  spev vrúcnych znie chvál.</dc:title>
</cp:coreProperties>
</file>